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242-B3BE-40D9-AB53-4359685D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973-3015-4996-9561-6907F4FD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3EB-E219-48BF-AD25-3047102B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ED9-3CEB-43EF-87CA-E3736083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2F4-0CD5-48AC-B592-5DD3324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5E4-B14C-4046-B52B-0DFC311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91F-A3C9-416E-8882-CA24DEEE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B65-2964-44EA-B923-8BE76E44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889-0300-4415-B467-150FCA9A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8E2-8297-4DA7-B5A4-A2E18AE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885-518D-4DBD-AAAA-4835D8B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45F-FA08-47F2-87A0-5CD3B85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5F9-90E2-44D1-8318-4B341508B1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al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With Remaind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380880"/>
            <a:ext cx="4876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calculator to help you 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609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How many 2p chews can you buy for 23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819520"/>
            <a:ext cx="9144000" cy="2968560"/>
            <a:chOff x="0" y="2819520"/>
            <a:chExt cx="9144000" cy="2968560"/>
          </a:xfrm>
        </p:grpSpPr>
        <p:sp>
          <p:nvSpPr>
            <p:cNvPr id="45" name=""/>
            <p:cNvSpPr/>
            <p:nvPr/>
          </p:nvSpPr>
          <p:spPr>
            <a:xfrm>
              <a:off x="0" y="3429000"/>
              <a:ext cx="6629400" cy="119124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A boat can ferry 10 people at a time. How many trips are required to carry 123 people across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473880" y="2819520"/>
              <a:ext cx="2670120" cy="29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7596360" y="551664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380880"/>
            <a:ext cx="8839080" cy="2298960"/>
            <a:chOff x="304920" y="380880"/>
            <a:chExt cx="8839080" cy="2298960"/>
          </a:xfrm>
        </p:grpSpPr>
        <p:sp>
          <p:nvSpPr>
            <p:cNvPr id="49" name=""/>
            <p:cNvSpPr/>
            <p:nvPr/>
          </p:nvSpPr>
          <p:spPr>
            <a:xfrm>
              <a:off x="304920" y="380880"/>
              <a:ext cx="8839080" cy="4597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How many football teams of 11 can you make out of 127 people 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543800" y="990720"/>
              <a:ext cx="119556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2133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28600" y="3733920"/>
            <a:ext cx="83818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If you buy as many  7p sweets as you can for 60p, how much money is left over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2708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8:57:36Z</dcterms:created>
  <dc:creator>LT Scotland</dc:creator>
  <dc:description/>
  <dc:language>en-US</dc:language>
  <cp:lastModifiedBy>LTS</cp:lastModifiedBy>
  <dcterms:modified xsi:type="dcterms:W3CDTF">2004-11-28T13:43:41Z</dcterms:modified>
  <cp:revision>2</cp:revision>
  <dc:subject/>
  <dc:title>Access 3 Mathematics: Unit 1 Outcome 1 - Dealing With Remainders.</dc:title>
</cp:coreProperties>
</file>